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EA50-A916-46DB-A96E-9D7456024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AE19-96AB-451B-9CCA-E69E28653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BF3E-9C94-4935-86D2-6F82C60DA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E3F8-913F-4F04-A003-C8319448F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1D0B-2C8C-4D1C-9428-DC6D4B426D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60C0-95D7-4F82-A0AD-94809C2F31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17AA-E450-4173-AB6D-63AC7CDA4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17CF-BC4F-4AEF-B9ED-C3AEE6532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DF8F-DAB4-4F6B-BBB3-9084015F1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CFC7-0CD0-4857-B187-DADF477F8A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ECE5-2D2B-4DE9-8217-1A6F6A6EA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BA31-D08D-4F9B-966F-9C723BD25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E155-7435-4E4C-BE1F-38AC347E6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EC82-1FAD-4C5F-AB01-001E030B89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4719-4713-4DA6-A4FB-F7F058891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80ED-8DE3-473B-BB9B-29146B6D6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998E-83C1-4C54-ABF1-3F54B9EDCF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0B114-BF36-4390-B83E-70A9C75A1E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1671C-5F8C-4EED-B6DC-E4D5BA8C7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933CB-F451-4B52-92D6-DA2993FD4B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81167-BA74-4CE1-990D-E735DE8F53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8F7C9-2863-4CFF-BD4C-944F7D0A9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6748-1069-421A-AC8A-8A79C384D5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8729F-53DF-462A-8ABE-948EE68DD2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7850A-A0FD-4BCB-B6D5-A7EF713525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60EA-B8D2-4C24-A502-8CB27E15C5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0DE39-BD33-457A-9D92-713DF417CB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A3C8-B72E-4A83-9385-3E2E815009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6BAC-D8FC-40F3-BDC2-58E11E0CB7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4400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00720" y="2204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728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4400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00720" y="3032640"/>
            <a:ext cx="24346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2F3B4-1206-41EC-993B-71C713B4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4E7D-3A93-472F-9C86-424B40F93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328B-21CB-4EB7-934B-DC352EC8C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5640" y="907920"/>
            <a:ext cx="75596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3D51-65B1-40A0-BB7E-659B3CCE9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D02E-0019-417C-8BFA-50266F1E7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960" y="3032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97BF-A898-49D1-9A0D-85AAEC98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2204640"/>
            <a:ext cx="3689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7280" y="3032640"/>
            <a:ext cx="7561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D9AB-0923-48DE-AED7-9B0E0478C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8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3DB-C8D5-4E51-A058-0646A6F286E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5640" y="2852280"/>
            <a:ext cx="75596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258560" y="4365360"/>
            <a:ext cx="748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3560" indent="-511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0556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8800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70080" indent="-4104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6" name="Text Box 17"/>
          <p:cNvSpPr/>
          <p:nvPr/>
        </p:nvSpPr>
        <p:spPr>
          <a:xfrm>
            <a:off x="1258920" y="537372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7" name="Text Box 18"/>
          <p:cNvSpPr/>
          <p:nvPr/>
        </p:nvSpPr>
        <p:spPr>
          <a:xfrm rot="16200000">
            <a:off x="-930960" y="1961280"/>
            <a:ext cx="28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–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8" name="Picture 24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1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042920" y="6237360"/>
            <a:ext cx="81010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F26-DA3B-4542-A899-8120E8E75EC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332000" y="6237000"/>
            <a:ext cx="547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1187280" y="22046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1" marL="363960" indent="-140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2" marL="5598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3" marL="78408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4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5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lvl="6" marL="1008000" indent="-1119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19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6877080" y="6237360"/>
            <a:ext cx="2266920" cy="307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a2d1"/>
                </a:solidFill>
                <a:latin typeface="Arial"/>
              </a:rPr>
              <a:t>Baris Izci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75912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3" name="Text Box 23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54" name="Text Box 24"/>
          <p:cNvSpPr/>
          <p:nvPr/>
        </p:nvSpPr>
        <p:spPr>
          <a:xfrm rot="16200000">
            <a:off x="-911160" y="1909800"/>
            <a:ext cx="28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and Arts - Dortmund -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0000" y="691920"/>
            <a:ext cx="755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8227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d822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70080" y="1557360"/>
            <a:ext cx="754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71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4"/>
          </p:nvPr>
        </p:nvSpPr>
        <p:spPr>
          <a:xfrm>
            <a:off x="108000" y="630828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5375-A1E3-4D09-990A-67C28720067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1332000" y="623700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588000" y="6237360"/>
            <a:ext cx="2266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8" name="Text Box 20"/>
          <p:cNvSpPr/>
          <p:nvPr/>
        </p:nvSpPr>
        <p:spPr>
          <a:xfrm rot="16200000">
            <a:off x="-780120" y="455616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d8227"/>
                </a:solidFill>
                <a:latin typeface="Arial"/>
              </a:rPr>
              <a:t>EuroMPM</a:t>
            </a:r>
            <a:endParaRPr b="0" lang="en-US" sz="40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99" name="Text Box 21"/>
          <p:cNvSpPr/>
          <p:nvPr/>
        </p:nvSpPr>
        <p:spPr>
          <a:xfrm rot="16200000">
            <a:off x="-907200" y="1987560"/>
            <a:ext cx="28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University of Applied Sciences 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Dortmund Germany</a:t>
            </a:r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108000" y="0"/>
            <a:ext cx="828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cdd.gov.tr/tcdding/avrupa_ing.htmhttp://en.wikipedia.org/wiki/Turkish_State_Railways" TargetMode="External"/><Relationship Id="rId2" Type="http://schemas.openxmlformats.org/officeDocument/2006/relationships/hyperlink" Target="http://en.wikipedia.org/wiki/Istanbul_Sirkeci_railway_stati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24212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Public Railways Transportation between 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Australian Sunrise"/>
                <a:ea typeface="宋体"/>
              </a:rPr>
              <a:t>Turkey and Balkan States</a:t>
            </a:r>
            <a:br>
              <a:rPr sz="3600"/>
            </a:b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71440" y="278568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1" lang="de-DE" sz="4000" spc="-1" strike="noStrike">
                <a:solidFill>
                  <a:srgbClr val="333399"/>
                </a:solidFill>
                <a:latin typeface="Australian Sunrise"/>
                <a:ea typeface="宋体"/>
              </a:rPr>
              <a:t>Pres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 </a:t>
            </a:r>
            <a:r>
              <a:rPr b="1" lang="de-DE" sz="3200" spc="-1" strike="noStrike">
                <a:solidFill>
                  <a:srgbClr val="333399"/>
                </a:solidFill>
                <a:latin typeface="Australian Sunrise"/>
                <a:ea typeface="宋体"/>
              </a:rPr>
              <a:t>Baris Iz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766C-C063-437A-B670-1A49D06A705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757260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AAD-8558-46DC-86E4-8FDD94CACFD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Referenc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7280" y="2205000"/>
            <a:ext cx="75614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cdd.gov.tr/tcdding/avrupa_ing.htmhttp://en.wikipedia.org/wiki/Turkish_State_Railway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Istanbul_Sirkeci_railway_st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90B-151C-421F-B0E3-7459024DE67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561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URKISH STATE RAILWAY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One of the biggest state owned corporation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operater of the domestic line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a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Member of InterRail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s Middle East- the Balkans –Europe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rerates its trains to further European Countries with Interrail.</a:t>
            </a:r>
            <a:br>
              <a:rPr sz="3200"/>
            </a:br>
            <a:r>
              <a:rPr b="1" lang="de-DE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</p:txBody>
      </p:sp>
      <p:pic>
        <p:nvPicPr>
          <p:cNvPr id="141" name="Content Placeholder 6" descr="tcdd.jpg"/>
          <p:cNvPicPr/>
          <p:nvPr/>
        </p:nvPicPr>
        <p:blipFill>
          <a:blip r:embed="rId1"/>
          <a:stretch/>
        </p:blipFill>
        <p:spPr>
          <a:xfrm>
            <a:off x="3214800" y="142920"/>
            <a:ext cx="3571920" cy="121428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4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3AF9-089E-4C9D-89C4-5647ED76F473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SYSTEM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545-7A99-4A3D-BF4A-DCE4BF32AC4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360" y="188640"/>
            <a:ext cx="8072280" cy="59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403280" y="285840"/>
            <a:ext cx="7097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1900"/>
                </a:solidFill>
                <a:latin typeface="Australian Sunrise"/>
              </a:rPr>
              <a:t>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Trains to the Balkans</a:t>
            </a: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3a1900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buClr>
                <a:srgbClr val="3a1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900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1900"/>
                </a:solidFill>
                <a:latin typeface="Arial"/>
                <a:ea typeface="Times New Roman"/>
              </a:rPr>
              <a:t>Filia Express</a:t>
            </a: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48" name="Picture 7" descr="Bosphorus-Europe-Express.jpg"/>
          <p:cNvPicPr/>
          <p:nvPr/>
        </p:nvPicPr>
        <p:blipFill>
          <a:blip r:embed="rId1"/>
          <a:stretch/>
        </p:blipFill>
        <p:spPr>
          <a:xfrm>
            <a:off x="1285920" y="2000160"/>
            <a:ext cx="3357360" cy="1803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ostluk_tr.jpg"/>
          <p:cNvPicPr/>
          <p:nvPr/>
        </p:nvPicPr>
        <p:blipFill>
          <a:blip r:embed="rId2"/>
          <a:stretch/>
        </p:blipFill>
        <p:spPr>
          <a:xfrm>
            <a:off x="4786200" y="3857760"/>
            <a:ext cx="330048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F593-B174-4E52-8D7C-D982BF24B57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6840" y="50004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Times New Roman"/>
              </a:rPr>
              <a:t>ROUTES</a:t>
            </a:r>
            <a:endParaRPr b="0" lang="en-US" sz="36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4280" y="1785600"/>
            <a:ext cx="7561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Sofia-Belgrade-Bucharest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Istanbul-Alexandroupolis-Komotini-Xanthi-Drama-Serres-Kilkis-Salonik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D42-1D28-4291-88F0-373AADED325D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55964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71760" y="1928520"/>
            <a:ext cx="75722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43040" y="2643120"/>
          <a:ext cx="6095880" cy="2835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Klas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6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9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 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13BA-FA4C-4D35-BF5B-8CAF5ACBB57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5596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5400"/>
            </a:br>
            <a:r>
              <a:rPr b="1" lang="en-US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br>
              <a:rPr sz="4400"/>
            </a:b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643040"/>
            <a:ext cx="75614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  <a:ea typeface="Times New Roman"/>
              </a:rPr>
              <a:t>Bosphorus Express</a:t>
            </a:r>
            <a:endParaRPr b="0" lang="en-US" sz="2800" spc="-1" strike="noStrike">
              <a:solidFill>
                <a:srgbClr val="3a19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a1900"/>
                </a:solidFill>
                <a:latin typeface="Arial"/>
                <a:ea typeface="Times New Roman"/>
              </a:rPr>
              <a:t>Supplement Fares for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14680" y="2786040"/>
          <a:ext cx="6643440" cy="331776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660680"/>
                <a:gridCol w="166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urist(2/3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(2/2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(1/1)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Sofia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elgrad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,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anbul-Bucharest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9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59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d2d8a"/>
                </a:solidFill>
                <a:latin typeface="Arial"/>
                <a:ea typeface="Times New Roman"/>
              </a:rPr>
              <a:t>FARES</a:t>
            </a:r>
            <a:br>
              <a:rPr sz="4800"/>
            </a:br>
            <a:r>
              <a:rPr b="1" lang="en-US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(TL)</a:t>
            </a:r>
            <a:endParaRPr b="0" lang="en-US" sz="20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499760"/>
            <a:ext cx="7561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LIA EXPRE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B16A-9511-4396-8392-509F1C4B94E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4280" y="2286000"/>
          <a:ext cx="7286760" cy="3757680"/>
        </p:xfrm>
        <a:graphic>
          <a:graphicData uri="http://schemas.openxmlformats.org/drawingml/2006/table">
            <a:tbl>
              <a:tblPr/>
              <a:tblGrid>
                <a:gridCol w="2428920"/>
                <a:gridCol w="2428920"/>
                <a:gridCol w="242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Clas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Class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anbul-Salonik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,9                                                   57        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ilk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Serr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Drama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3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8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Xanth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Komotini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4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.-Alexandroupoli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7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ustralian Sunris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2d2d8a"/>
                </a:solidFill>
                <a:latin typeface="Arial"/>
                <a:ea typeface="Times New Roman"/>
              </a:rPr>
              <a:t>Decision Table</a:t>
            </a:r>
            <a:endParaRPr b="0" lang="en-US" sz="5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2205000"/>
            <a:ext cx="756144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d2d8a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Preferred traveling Clas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Willing to have sleeping cars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1900"/>
                </a:solidFill>
                <a:latin typeface="Arial"/>
              </a:rPr>
              <a:t>a) Price in Turkish Lira</a:t>
            </a: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1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781-B9E9-4D9F-80B8-E75AC3A01D0C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559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Decision Table</a:t>
            </a:r>
            <a:br>
              <a:rPr sz="4800"/>
            </a:br>
            <a:r>
              <a:rPr b="0" lang="de-DE" sz="4800" spc="-1" strike="noStrike">
                <a:solidFill>
                  <a:srgbClr val="2d2d8a"/>
                </a:solidFill>
                <a:latin typeface="Arial"/>
              </a:rPr>
              <a:t>Samples</a:t>
            </a:r>
            <a:endParaRPr b="0" lang="en-US" sz="4800" spc="-1" strike="noStrike">
              <a:solidFill>
                <a:srgbClr val="3a19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8000" y="6308640"/>
            <a:ext cx="87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B92-8027-4433-831F-8810CB8F6DA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ustralian Sunrise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332000" y="6237360"/>
            <a:ext cx="54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UBLIC RAILWAYS TRANSPORTATION BETWEEN TURKEY AND BALKAN STATES</a:t>
            </a: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ustralian Sunrise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15520" cy="442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1:28:58Z</dcterms:created>
  <dc:creator>Fachbereich Wirtschaft</dc:creator>
  <dc:description/>
  <dc:language>en-US</dc:language>
  <cp:lastModifiedBy>USER</cp:lastModifiedBy>
  <dcterms:modified xsi:type="dcterms:W3CDTF">2009-10-12T21:58:35Z</dcterms:modified>
  <cp:revision>82</cp:revision>
  <dc:subject/>
  <dc:title>Simulation Methods and Educational Educational Games for Project Management</dc:title>
</cp:coreProperties>
</file>